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EFFE-3786-4F25-8C50-7BE22D10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2CB2-1B24-466F-9BEC-E843341F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F4D2-92E7-4136-A878-62B1FBF6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90EF-31BF-46D8-9AA0-E5EB04A9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1CE1-966C-4CAC-ADA6-1D0F078C2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EADB-F29A-4627-8662-1567BF89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2E31-DD3B-4276-8473-37C0A48C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4430-7EEB-4160-83D4-9F23C47D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A162-32CE-41DA-98E6-8BEAE0FB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A162-F652-4DEA-A7F7-35032FEA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C33E-D80B-4FCB-9AF3-7FDB9A41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9675-D664-465D-B483-87D437E0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24DB-858F-4370-AECE-2BEC2A53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BDF6-4164-4BE6-8052-71163FE7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8F11-FBCF-409E-91B9-895E93BC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B68A-4526-4B35-B15C-4E3B3080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60DD-283A-4881-BE44-D09B6C49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D932-0E16-4B38-8DFD-25174DAB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27F-1B7A-46F3-8F9C-E2365FF8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29C6-C74F-464E-9BA8-EF6AEFC7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809D-5EF1-4861-A81A-EB21FEE4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884B-5782-412E-973D-3CED31E5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0B04-98E6-4741-9E15-5DCD6335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BC93-E561-49BD-B04A-0E6E1259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E7DD-3A23-41FE-B25D-15AA5829EA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D74D-1F05-41EF-B127-CBDBA1E253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n The Days of the Judg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3, Lesson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s 8:4 -9:5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. 74-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deon Kills Other Midianite Leader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4724280" cy="3543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0880" y="502920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ccoth – Today Tell Deir All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Fords of Jabbok from north"/>
          <p:cNvPicPr/>
          <p:nvPr/>
        </p:nvPicPr>
        <p:blipFill>
          <a:blip r:embed="rId3"/>
          <a:stretch/>
        </p:blipFill>
        <p:spPr>
          <a:xfrm>
            <a:off x="5105520" y="1447920"/>
            <a:ext cx="3809880" cy="2371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10080" y="40384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nu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9724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438280" y="765000"/>
            <a:ext cx="670572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0:39:12Z</dcterms:created>
  <dc:creator>Terry Benton</dc:creator>
  <dc:description/>
  <dc:language>en-US</dc:language>
  <cp:lastModifiedBy>Terry Benton</cp:lastModifiedBy>
  <dcterms:modified xsi:type="dcterms:W3CDTF">2005-02-09T04:52:59Z</dcterms:modified>
  <cp:revision>2</cp:revision>
  <dc:subject/>
  <dc:title>In The Days of the Judges</dc:title>
</cp:coreProperties>
</file>